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71C4-3FB5-434F-9167-A4D5C5DE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76BF-45B9-46C9-8E18-6A226B4B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52FA-1287-4391-93EF-A518DD55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8FBA-2658-4B0A-A837-3D7B74CE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45E1-51BB-4670-9545-FE10CB70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188B-999E-40F5-8EB4-A59204C8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F008-BFAB-4C5B-B46F-F2C14F0D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BB2D-EDEF-4B3F-B7F3-8A36BBF8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3964-F076-4D0C-96FB-9411F6F7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36CD-1E82-434F-BC38-E309229F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CB68-B7B8-4EB8-9EBC-554AED0C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66A1-17EA-4D2F-8390-32D78E65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5B49-45E6-4E46-BA75-A8EA17F1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ADEF-9349-4617-8282-05F9BF88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200C-DB4F-40F9-BFFC-777F7725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7B49-5FAC-4A36-8C32-EB275C26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B651-44FE-41EE-A51C-F5FF83E8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F059E-A7B0-4B26-8850-CC02BECA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D173A-CC55-4E89-8D70-1AEEC4BB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95745-9ECF-4A44-A97F-B7D29435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6573A-EEAC-40C8-932B-A86DB1DB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99B97-65E3-4456-B10C-2DF0D410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E9BF-4FFD-463F-9BE3-F29E0EF0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8238A-F43E-4142-A750-3BE35CA4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4507A-388F-460E-AD1B-96ACC407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52FDE-098E-4D18-82C6-44D66121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8E84B-154A-45FC-BF77-E564553C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EE63C-E749-4B3B-962D-495DBBCE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0AA7B-F612-4325-BD93-8A3A9E3D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A1B3B-969E-479B-BC17-2AFC2E1E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FE83B-B753-4179-B478-0E7DF733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479B1-9F56-494C-8270-5240F6EE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F8FCB-BA50-4CA7-8783-F2F8EE14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EAA6-E769-4631-B77C-8ACB2ABB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0F1E6-54C0-4776-8700-0A51D1CA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295FF-03A0-49F1-90EA-93923BDA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96925-FE3B-412A-8604-D3BEEEE8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26031-30BB-4256-B9D1-42EC1790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7447D-EFDA-4CF7-882B-82006394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D4C54-8BF8-445D-AB62-8F2E21E4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132B5-D9E4-4802-A12E-66114C6C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EDD54-B2AA-4C62-81C8-203419A9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DD0C2-77AC-4AD8-996C-D25F4CCF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BD62F-9391-4C4C-ADA6-11851AEF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28A8-6B22-470E-81AF-A8A61C45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DAADC-31F0-4746-9FF0-0633AA45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DBA83-2B8E-4D2A-BFC8-317C77BC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75FE0-E7B7-43FF-8B3B-7590A2E5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5473E-85E0-4341-946B-4D143591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745F7-6223-4ED4-884C-C251F6AE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2830C-2378-4144-A516-12083EA3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A745D-375F-412B-B371-1A2351C9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941E2-05E4-4105-8131-A1E59C9C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4F19B-3773-48DB-A8A4-CA43E670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266B3-8C1B-48B9-A09F-B7B3564E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9FDE-45C2-4AE2-8C49-DF97B73C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B753A-5025-44FB-87B3-D94779D7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06131-EF97-4294-99E3-F3117FFB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E9FFD-D896-412B-9E19-2560288D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7A7D9-E150-4F50-97CC-F680FD3B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83BC2-B6A4-48CB-A129-3EE17E9F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62FD1-E641-4B31-941A-D7EE1F90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0D7AE-5CAE-4E17-977A-6F238523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F86F8-E5B7-40D3-983D-3C52EB98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4DC5B-1F86-4C00-B685-06F1E665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D8C69-DCE0-42FB-A148-308BC336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A14B-B325-4FBB-B987-19B7F3F7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5F2E1-EA29-4B4C-94A9-33B74753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52977-A1C8-4352-B617-606C768B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950F7-25C0-467C-8883-3C623E92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DB6F2-7A01-4138-A872-F795EDFC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BD9E9-5CE1-4FA0-824C-3BE22CD3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D221A-00D3-45B7-AD07-A33F3FC2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2A955-88F8-4657-AD9A-07890AA6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A14A5-1F56-42BE-B986-B95E4EA1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F09AD-EBA5-460A-93D3-BDA49B1E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B6622-B350-4366-8A10-8F8B7D00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CEA2-DF2B-4969-8A1D-B37A1A25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3FE74-2717-40CC-9C66-2C2E8590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D665E-0D1A-4067-A887-2AB7866F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E77B4-50E1-493A-87BC-B37F28DA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94C18-ACDF-402C-AAF5-95A586F7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1353B-C832-4829-BEDC-17BAE26C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DAF95-973A-46E4-8419-FC77826F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04232-D9A8-4859-9086-7D7C2E44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47E04-BE20-4D05-B1D3-31F74D0C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49E25-91C5-4A32-B463-3E9B1F89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E83DA-20F3-4AD3-B167-D98DE23B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34F8-8804-4661-A4E2-A388BC57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CFA99-285B-4E20-8843-9AC659B3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41366-3F26-4BB9-90FA-FB9783B9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C075C-9A3E-4632-83EC-702AC358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02554-AB0B-4A7F-8B07-F999FE57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6C92D-53DB-41E2-A070-7769E369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E0DA9-D7F3-430D-AEC0-BD485C4D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97378-9226-44B9-AA46-1769EF6B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9028-2538-4B82-B2A8-CB5B1CEAE714}" type="datetime">
              <a: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rPr>
              <a:t>26年 7月 31日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9E58-2A0D-42ED-9917-53EC9674613F}" type="slidenum">
              <a: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그룹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자유형 7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자유형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직선 연결선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ffffff"/>
                </a:solidFill>
                <a:latin typeface="Lucida Sans Unicode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01A9-EE2B-4802-B971-0AFFABBD9BB0}" type="datetime">
              <a:rPr b="0" lang="ko-KR" sz="1000" spc="-1" strike="noStrike">
                <a:solidFill>
                  <a:srgbClr val="ffffff"/>
                </a:solidFill>
                <a:latin typeface="Lucida Sans Unicode"/>
                <a:ea typeface="맑은 고딕"/>
              </a:rPr>
              <a:t>26年 7月 31日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ffffff"/>
                </a:solidFill>
                <a:latin typeface="Lucida Sans Unicode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C4E8-54E1-4614-9CD3-EA0E275D5612}" type="slidenum">
              <a:rPr b="0" lang="ko-KR" sz="1000" spc="-1" strike="noStrike">
                <a:solidFill>
                  <a:srgbClr val="ffffff"/>
                </a:solidFill>
                <a:latin typeface="Lucida Sans Unicode"/>
                <a:ea typeface="맑은 고딕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갈매기형 수장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DED5-76B2-4764-BAA2-E366C20023DC}" type="datetime">
              <a: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rPr>
              <a:t>26年 7月 31日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2F05-CF8E-4E0B-A724-B0C48A51D66C}" type="slidenum">
              <a: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9BC6-3EE7-4005-B8B5-8190D593C096}" type="datetime">
              <a: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rPr>
              <a:t>26年 7月 31日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0625-07C4-4639-9BBD-E19ECFB44F2C}" type="slidenum">
              <a: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1859-3608-4BCF-AADF-A83F4C454C1A}" type="datetime">
              <a: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rPr>
              <a:t>26年 7月 31日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EAE7-E594-4531-B50D-079665CAD822}" type="slidenum">
              <a: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4DDC-BB20-4158-A7CB-92FE7B59617D}" type="datetime">
              <a: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rPr>
              <a:t>26年 7月 31日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39C8-71EF-4B81-8223-BF53E1A8208B}" type="slidenum">
              <a: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5603-E55B-40C1-931E-80A541AD2225}" type="datetime">
              <a: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rPr>
              <a:t>26年 7月 31日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BC9C-DA2C-4EBE-85D8-1721A716EE08}" type="slidenum">
              <a:rPr b="0" lang="ko-KR" sz="1000" spc="-1" strike="noStrike">
                <a:solidFill>
                  <a:srgbClr val="000000"/>
                </a:solidFill>
                <a:latin typeface="Lucida Sans Unicode"/>
                <a:ea typeface="맑은 고딕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7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자유형 8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직각 삼각형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직선 연결선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갈매기형 수장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ffffff"/>
                </a:solidFill>
                <a:latin typeface="Lucida Sans Unicode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F5B5-4C00-46C4-A703-BAECDDDECB9C}" type="datetime">
              <a:rPr b="0" lang="ko-KR" sz="1000" spc="-1" strike="noStrike">
                <a:solidFill>
                  <a:srgbClr val="ffffff"/>
                </a:solidFill>
                <a:latin typeface="Lucida Sans Unicode"/>
                <a:ea typeface="맑은 고딕"/>
              </a:rPr>
              <a:t>26年 7月 31日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ffffff"/>
                </a:solidFill>
                <a:latin typeface="Lucida Sans Unicode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8DF6-4908-4971-B7EB-82AAA612E94C}" type="slidenum">
              <a:rPr b="0" lang="ko-KR" sz="1000" spc="-1" strike="noStrike">
                <a:solidFill>
                  <a:srgbClr val="ffffff"/>
                </a:solidFill>
                <a:latin typeface="Lucida Sans Unicode"/>
                <a:ea typeface="맑은 고딕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Screen shot 2011-11-30 at 6.33.45 AM.png"/>
          <p:cNvPicPr/>
          <p:nvPr/>
        </p:nvPicPr>
        <p:blipFill>
          <a:blip r:embed="rId1"/>
          <a:stretch/>
        </p:blipFill>
        <p:spPr>
          <a:xfrm>
            <a:off x="838080" y="762120"/>
            <a:ext cx="707400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Content Placeholder 3" descr="19981120f-kaigai-e-40.gif"/>
          <p:cNvPicPr/>
          <p:nvPr/>
        </p:nvPicPr>
        <p:blipFill>
          <a:blip r:embed="rId1"/>
          <a:stretch/>
        </p:blipFill>
        <p:spPr>
          <a:xfrm>
            <a:off x="1295280" y="228600"/>
            <a:ext cx="678204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chedule CSAT more than once a year to give more opportunit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ss focus on just one exam but more focus on the overall three years of high school lif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tter communication between students and par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제목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happyFamily-Pardee Homes-Carmel Valley.jpg"/>
          <p:cNvPicPr/>
          <p:nvPr/>
        </p:nvPicPr>
        <p:blipFill>
          <a:blip r:embed="rId2"/>
          <a:stretch/>
        </p:blipFill>
        <p:spPr>
          <a:xfrm>
            <a:off x="3124080" y="4648320"/>
            <a:ext cx="2845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http://olpost.com/v/3273127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http://worldmeets.us/images/obama.punch.taekwondo_pic.gif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http://cfile7.uf.tistory.com/image/1552D73A4D6746B8186DB0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http://www5.cao.go.jp/98/f/19981120f-kaigai-e-40.gif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http://www.carmelcountryhighlands.com/images/happyFamily-Pardee%20Homes-Carmel%20Valley.jpg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제목 1" descr=""/>
          <p:cNvPicPr/>
          <p:nvPr/>
        </p:nvPicPr>
        <p:blipFill>
          <a:blip r:embed="rId1"/>
          <a:stretch/>
        </p:blipFill>
        <p:spPr>
          <a:xfrm>
            <a:off x="378000" y="1444680"/>
            <a:ext cx="8162640" cy="213372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The D-Day for all Korean High School Senior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Colin Shin 10F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Content Placeholder 3" descr="Screen shot 2011-11-30 at 6.01.51 AM.png"/>
          <p:cNvPicPr/>
          <p:nvPr/>
        </p:nvPicPr>
        <p:blipFill>
          <a:blip r:embed="rId1"/>
          <a:stretch/>
        </p:blipFill>
        <p:spPr>
          <a:xfrm>
            <a:off x="1523880" y="1143000"/>
            <a:ext cx="5807160" cy="5410080"/>
          </a:xfrm>
          <a:prstGeom prst="rect">
            <a:avLst/>
          </a:prstGeom>
          <a:ln w="0">
            <a:noFill/>
          </a:ln>
        </p:spPr>
      </p:pic>
      <p:pic>
        <p:nvPicPr>
          <p:cNvPr id="374" name="제목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75" name="TextBox 4"/>
          <p:cNvSpPr/>
          <p:nvPr/>
        </p:nvSpPr>
        <p:spPr>
          <a:xfrm>
            <a:off x="3628800" y="6324480"/>
            <a:ext cx="52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ttp://www.bbc.co.uk/news/business-156623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Content Placeholder 3" descr="Screen shot 2011-11-30 at 6.09.21 AM.png"/>
          <p:cNvPicPr/>
          <p:nvPr/>
        </p:nvPicPr>
        <p:blipFill>
          <a:blip r:embed="rId1"/>
          <a:stretch/>
        </p:blipFill>
        <p:spPr>
          <a:xfrm>
            <a:off x="1752480" y="1143000"/>
            <a:ext cx="5408640" cy="5516640"/>
          </a:xfrm>
          <a:prstGeom prst="rect">
            <a:avLst/>
          </a:prstGeom>
          <a:ln w="0">
            <a:noFill/>
          </a:ln>
        </p:spPr>
      </p:pic>
      <p:pic>
        <p:nvPicPr>
          <p:cNvPr id="377" name="Tit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78" name="TextBox 4"/>
          <p:cNvSpPr/>
          <p:nvPr/>
        </p:nvSpPr>
        <p:spPr>
          <a:xfrm>
            <a:off x="5867280" y="4800600"/>
            <a:ext cx="32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http://latimesblogs.latimes.com/world_now/2011/11/south-korea-education-annual-college-entrance-exam-required-silen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Korean high school students: burden of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king the CS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tty much determines the colleges available for you in Kore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orking hours start at 10 a.m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arly morning planes ground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mpty streets to accommodate studen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ven police cars offer rides to studen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제목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determines how an individual is valued and judged – by one single huge te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’s only once per year, unlike the SA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emendous psychological pressur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y do what it takes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ten cause chea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제목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as been quite controversial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lthough praised by President Obama and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others and held up as a role model, it has many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ide effect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SAT determines young people’s futur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mperative for a new education system for Korea – focus on individual interes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제목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obama.punch.taekwondo_pic.gif"/>
          <p:cNvPicPr/>
          <p:nvPr/>
        </p:nvPicPr>
        <p:blipFill>
          <a:blip r:embed="rId2"/>
          <a:stretch/>
        </p:blipFill>
        <p:spPr>
          <a:xfrm>
            <a:off x="5791320" y="304920"/>
            <a:ext cx="282564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sychological burden and excessive stres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ne of the highes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suicide rates among high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chool students in the wor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o hope of future = depressio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st Korean parents = education as #1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iority in life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제목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2010110501.jpg"/>
          <p:cNvPicPr/>
          <p:nvPr/>
        </p:nvPicPr>
        <p:blipFill>
          <a:blip r:embed="rId2"/>
          <a:stretch/>
        </p:blipFill>
        <p:spPr>
          <a:xfrm>
            <a:off x="5867280" y="3048120"/>
            <a:ext cx="17528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cial problem = graduates only look fo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gh-end jobs (Samsung, LG,,,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employment rate among young people 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ry high = hard to match position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제목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24:53Z</dcterms:created>
  <dc:creator>Susan2</dc:creator>
  <dc:description/>
  <dc:language>en-US</dc:language>
  <cp:lastModifiedBy>Colin Shin</cp:lastModifiedBy>
  <dcterms:modified xsi:type="dcterms:W3CDTF">2011-11-30T00:13:57Z</dcterms:modified>
  <cp:revision>18</cp:revision>
  <dc:subject/>
  <dc:title>CSAT or “Soo-Neung” Day</dc:title>
</cp:coreProperties>
</file>